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2A9-0E47-4C18-82DD-47E57DE3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51E-4A35-4E47-9684-8F30776F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C65-4C29-4E58-AE75-EDCAEDAC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8B9-783F-4F29-8420-272AE183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F68F-1934-42FC-AD8B-0B99F3C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25D-AE91-4270-A3EF-F549007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A08D-D484-45CB-8D9A-3F634D24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4344-5267-481A-AF8B-A4FB2142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CD22-312C-4CF9-83A8-7A634204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1793-3087-422A-9EDC-55F69C7F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75B4-FAED-424E-9704-42EA226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87B-C4B7-470A-A5DD-548C0D63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9E66-49BD-42B3-B15A-FF7871F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575-E06A-4D57-8541-3F250BF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F753-F7BD-42DE-A44F-238CE7B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056D-3EDB-4D92-A3A0-C1A3A6F0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CA72-EDE2-4561-8B38-484EC0E9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701-5D2E-491A-AD7F-6FCBB76D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67F-8F4C-4A7D-8218-5AD67719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C86-7F74-4D9A-8FE2-02D31AAD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1C5-F4B3-4E71-980E-4E2DE6A1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A91-4201-4FC0-B345-2EDAD27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004-107D-4B42-A0F1-A418B96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3FB-2DAA-4BF2-A568-901DE86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9446-B57B-4227-BE60-520E1F0F456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BB40-E321-487F-801C-66150F5EC72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rugosvet.ru/articles/103/1010323/1010323a1.htm" TargetMode="External"/><Relationship Id="rId2" Type="http://schemas.openxmlformats.org/officeDocument/2006/relationships/hyperlink" Target="http://www.krugosvet.ru/articles/69/1006917/1006917a1.htm" TargetMode="External"/><Relationship Id="rId3" Type="http://schemas.openxmlformats.org/officeDocument/2006/relationships/hyperlink" Target="http://www.krugosvet.ru/articles/69/1006929/1006929a1.htm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492280"/>
            <a:ext cx="633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960720" y="4723920"/>
            <a:ext cx="518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полнила: Бахтегараева Р.Н. руководитель 8 «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79280" y="189000"/>
          <a:ext cx="5113440" cy="6610320"/>
        </p:xfrm>
        <a:graphic>
          <a:graphicData uri="http://schemas.openxmlformats.org/drawingml/2006/table">
            <a:tbl>
              <a:tblPr/>
              <a:tblGrid>
                <a:gridCol w="1430280"/>
                <a:gridCol w="1330560"/>
                <a:gridCol w="1330200"/>
                <a:gridCol w="1022400"/>
              </a:tblGrid>
              <a:tr h="979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5. </a:t>
                      </a: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ЬНЫЕ АЛКОГОЛИЗМОМ СРЕДИ НАСЕЛЕНИЯ РОССИ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иагноз состоящих на учет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носительное количество (показатели на 100 тыс. населения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лкоголизм, алкогольные псих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630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25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4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96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4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85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бсолютное количество (тыс. чел.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лкоголизм, алкогольные психоз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406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209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199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лоупотребление алкоголе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38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11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07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5651640" y="189000"/>
            <a:ext cx="32414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Потребление алкоголя в России является одним из самых высоких в мире. Согласно официальной статистике, ежегодное потребления алкоголя на душу населения в постсоветской России сначала взлетело с 5 л в 1992 до 9,3 л. в 1995, но затем стабилизировалось примерно на уровне 7–7,5 л. Однако с учетом суррогатного алкоголя (самогон, медицинский спирт и т.д.) общее количество потребления на душу населения оценивается примерно в 15 л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2592360" cy="19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26920" y="105264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На распространение алкоголизма в России сильно влияет не только и не столько количество потребляемых напитков, сколько манера их употребления. Типичный для европейцев способ потребления алкогольных напитков – часто, но малыми дозами (скажем, по рюмке красного вина каждый вечер). В России же чаще встречается употребление алкоголя в виде «ударных доз» – большое количество выпитого в сжатые сроки (например, запои по праздникам, когда выпивка измеряется бутылками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315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317080" y="3933720"/>
            <a:ext cx="539640" cy="1368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793800" cy="1317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504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7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18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798E-006 C 0.02778 -2.94798E-006 0.05087 0.01526 0.05087 0.03515 C 0.05087 0.05619 0.02778 0.07191 -1.94444E-006 0.07191 C -0.02778 0.07191 -0.05069 0.08879 -0.05069 0.10821 C -0.05069 0.12786 -0.02778 0.14428 -1.94444E-006 0.14428 C 0.02778 0.14428 0.05087 0.16 0.05087 0.18012 C 0.05087 0.19954 0.02778 0.21619 -1.94444E-006 0.21619 C -0.02778 0.21619 -0.05069 0.23214 -0.05069 0.25318 C -0.05069 0.27237 -0.02778 0.28971 -1.94444E-006 0.28971 C 0.02778 0.28971 0.05087 0.27237 0.05087 0.25318 C 0.05087 0.23214 0.02778 0.21619 -1.94444E-006 0.21619 C -0.02778 0.21619 -0.05069 0.19954 -0.05069 0.18012 C -0.05069 0.16 -0.02778 0.14428 -1.94444E-006 0.14428 C 0.02778 0.14428 0.05087 0.12786 0.05087 0.10821 C 0.05087 0.08879 0.02778 0.07191 -1.94444E-006 0.07191 C -0.02778 0.07191 -0.05069 0.05619 -0.05069 0.03515 C -0.05069 0.01526 -0.02778 -2.94798E-006 -1.94444E-006 -2.94798E-006 Z">
                                      <p:cBhvr>
                                        <p:cTn id="18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1849 C 0.01493 -0.01849 0.02899 0.000230000000000001 0.02899 0.02289 C 0.02899 0.04671 0.01493 0.06544 -0.00208 0.06544 C -0.0191 0.06544 -0.03316 0.08416 -0.03316 0.10659 C -0.03316 0.12925 -0.0191 0.14798 -0.00208 0.14798 C 0.01493 0.14798 0.02899 0.16671 0.02899 0.18937 C 0.02899 0.21179 0.01493 0.23052 -0.00208 0.23052 C -0.0191 0.23052 -0.03316 0.24925 -0.03316 0.27307 C -0.03316 0.29573 -0.0191 0.31445 -0.00208 0.31445 C 0.01493 0.31445 0.02899 0.29573 0.02899 0.27307 C 0.02899 0.24925 0.01493 0.23052 -0.00208 0.23052 C -0.0191 0.23052 -0.03316 0.21179 -0.03316 0.18937 C -0.03316 0.16671 -0.0191 0.14798 -0.00208 0.14798 C 0.01493 0.14798 0.02899 0.12925 0.02899 0.10659 C 0.02899 0.08416 0.01493 0.06544 -0.00208 0.06544 C -0.0191 0.06544 -0.03316 0.04671 -0.03316 0.02289 C -0.03316 0.000230000000000001 -0.0191 -0.01849 -0.00208 -0.01849 Z">
                                      <p:cBhvr>
                                        <p:cTn id="18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50920" y="189000"/>
          <a:ext cx="8569080" cy="3079800"/>
        </p:xfrm>
        <a:graphic>
          <a:graphicData uri="http://schemas.openxmlformats.org/drawingml/2006/table">
            <a:tbl>
              <a:tblPr/>
              <a:tblGrid>
                <a:gridCol w="1762200"/>
                <a:gridCol w="1554120"/>
                <a:gridCol w="1554120"/>
                <a:gridCol w="1371600"/>
                <a:gridCol w="1371600"/>
                <a:gridCol w="955440"/>
              </a:tblGrid>
              <a:tr h="934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6. </a:t>
                      </a: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ЕДУШЕВОЕ ГОДОВОЕ ПОТРЕБЛЕНИЕ СПИРТО-ВОДОЧНЫХ НАПИТКОВ В ЛИТРА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3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4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6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611280" y="407664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Несмотря на очевидную связь алкоголизма и острых социальных проблем, за последние 20 лет потребление алкоголя в мире удвоилось. Более 80% этого объема приходится на более развитые в промышленном отношении страны Западной Европы, США, постсоветские государства. Наименее затронуты «зеленым змием» страны ислама, где религия строго запрещает употребление спиртног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3716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573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Россия является лидером по употреблению спиртоводочных напитков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95280" y="907920"/>
          <a:ext cx="8532720" cy="5400720"/>
        </p:xfrm>
        <a:graphic>
          <a:graphicData uri="http://schemas.openxmlformats.org/drawingml/2006/table">
            <a:tbl>
              <a:tblPr/>
              <a:tblGrid>
                <a:gridCol w="2560680"/>
                <a:gridCol w="3071880"/>
                <a:gridCol w="2900160"/>
              </a:tblGrid>
              <a:tr h="505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3. 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ТЕПЕНИ ОПЬЯНЕ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гка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я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яжелая степень опьяне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вышается настроение, облегчается общение, появляется ощущение мышечного расслабления и физического комфорта. Мимика становится более выразительной, движения менее точными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место благодушного настроения может возникнуть раздражительность, обидчивость иногда злостность и агрессия. Критика к себе и окружающим снижается. Нарушаться координация движения и походка. Речь становиться невнятной. Снижается болевая и температурная чувствительность. После опьянения обычно отмечаться симптомы интоксикации: головная боль, слабость, жажда, сниженное настроение с апатией или раздражительностью. Память на период опьянения обычно не нарушаетс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мечаются симптомы выключения сознания от оглушения до комы. Иногда возникают эпилептические припадки. Возможно непроизвольное мочеиспускание и дефекации. Подобное состояние как правило полностью отсутствует в памяти человек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176364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Степени алкогольного опьян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03280" y="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Опрос школьников 16-ти лет по употреблению спиртных напитк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692280"/>
            <a:ext cx="853272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Считаете ли Вы алкоголь желательным элементом время провожде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да-3 (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ет-6 (2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по обстоятельствам-16 (6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Употребляйте ли вы алкоголь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да-19 (76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нет-6 (2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Какой алкогольный  напиток Вы предпочитаете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пиво-4 (14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вино-9 (28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водку-1 (3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коньяк-3 (63,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ликеры-3 (10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е) другое-5 (31,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В какой обстановке употребление алкоголя доставляет Вам наибольшее удовольствие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а) в одиночестве-1 (5,26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б) в интимной обстановке-3 (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в) на занятиях-0 (0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г) с друзьями-12 (63,12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д) все равно-9 (31.5%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95280" y="260280"/>
            <a:ext cx="8064360" cy="51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4. В какой обстановке употребление алкоголя доставляет Вам наибольшее удовольствие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в одиночестве-2 (5,26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интимной обстановке-1 (5,26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на занятиях-0 (0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с друзьями-12 (63,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д) все равно10 (26,3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5. Где вы предпочитаете употреблять алкогол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на природе, на улице-7 (36,8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кафе, дома-7 (36,8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в школе-0 (0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д) все равно-5 (26,3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6. Как часто Вы употребляете алкоголь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редко, от случая к случаю-9 (31.5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два раза в неделю и чаще-2 (8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иногда-11 (48.5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г) когда есть средства-3 (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7. Влияет ли по-вашему, небольшое количество алкоголя на усвоение ученого материала?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а) да, сильно влияет- 12(63.12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б) в некоторой мере-6 (24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в) нет-7 (28%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Опрошено: 25 челове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3640" y="1844640"/>
            <a:ext cx="180000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БИБЛИОГРАФИЧЕСКИЙ СПИСОК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.В. Немцов Алкогольная ситуация в России/ Доклад по политике в области общественного здоровья №2 Серии "Здоровье для всех - все для здоровья в России" под редакции А.К. Демина. Российская Ассоциация общественного здоровья, Фонд "Здоровье и окружающая среда". М.,1995. - 126 с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 Никитин Ю.П., Кирилович С.А., Авксентюк А.В. Эпидемиология потребления алкоголя мужчинами г. Новосибирска/ Вопросы наркологии, 1993, №3, С. 76-81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вербах Л.К., Шамота А.З. Потребление алкоголя и некоторые показатели алкоголизации населения/ Вопросы наркологии, -1992, №2, С. 32-37.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1 - Немцов А.В. Уровень реального потребления алкоголя в Российской федерации (1981 - 1990 гг.)/ Социальная и клиническая психиатрия, 1992, 2, № 4, С. 46-53. </a:t>
            </a: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2 - А.К. Демин, И.А. Демина Здоровье населения и алкогольная эпидемия в России: лекарство от жизни?/ "Алкоголь и здоровье населения России 1900-2000" под редакции А.К. Демина. Российская Ассоциация общественного здоровья. М., 1998. - С.16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493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92360" y="1052640"/>
            <a:ext cx="655308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1"/>
              </a:rPr>
              <a:t>С.Есенина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, А.Фадеева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2"/>
              </a:rPr>
              <a:t>А.Твардовского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65b2ff"/>
                </a:solidFill>
                <a:uFillTx/>
                <a:latin typeface="Tahoma"/>
                <a:hlinkClick r:id="rId3"/>
              </a:rPr>
              <a:t>В.Высоцкого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~Valdik~</cp:lastModifiedBy>
  <dcterms:modified xsi:type="dcterms:W3CDTF">2002-01-18T04:59:53Z</dcterms:modified>
  <cp:revision>60</cp:revision>
  <dc:subject/>
  <dc:title>Слайд 1</dc:title>
</cp:coreProperties>
</file>